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3.gif" ContentType="image/gif"/>
  <Override PartName="/ppt/media/image26.png" ContentType="image/png"/>
  <Override PartName="/ppt/media/image25.wmf" ContentType="image/x-wmf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EC130-B11B-4360-9B16-5D29CBC889D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20865-41D8-4C95-AA69-753711CA0C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53" descr=""/>
          <p:cNvPicPr/>
          <p:nvPr/>
        </p:nvPicPr>
        <p:blipFill>
          <a:blip r:embed="rId2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6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图片 45" descr="枫叶副本.gif"/>
          <p:cNvPicPr/>
          <p:nvPr/>
        </p:nvPicPr>
        <p:blipFill>
          <a:blip r:embed="rId5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44800"/>
          </a:xfrm>
          <a:prstGeom prst="rect">
            <a:avLst/>
          </a:prstGeom>
          <a:ln w="0">
            <a:noFill/>
          </a:ln>
        </p:spPr>
      </p:pic>
      <p:grpSp>
        <p:nvGrpSpPr>
          <p:cNvPr id="47" name="AutoShape 508"/>
          <p:cNvGrpSpPr/>
          <p:nvPr/>
        </p:nvGrpSpPr>
        <p:grpSpPr>
          <a:xfrm>
            <a:off x="493560" y="1060560"/>
            <a:ext cx="8156880" cy="2163600"/>
            <a:chOff x="493560" y="1060560"/>
            <a:chExt cx="8156880" cy="2163600"/>
          </a:xfrm>
        </p:grpSpPr>
        <p:pic>
          <p:nvPicPr>
            <p:cNvPr id="48" name="AutoShape 508" descr=""/>
            <p:cNvPicPr/>
            <p:nvPr/>
          </p:nvPicPr>
          <p:blipFill>
            <a:blip r:embed="rId2"/>
            <a:stretch/>
          </p:blipFill>
          <p:spPr>
            <a:xfrm>
              <a:off x="493560" y="1060560"/>
              <a:ext cx="8156880" cy="21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28480" y="109368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7" y="0"/>
                </a:lnTo>
                <a:cubicBezTo>
                  <a:pt x="8096776" y="0"/>
                  <a:pt x="8153400" y="56624"/>
                  <a:pt x="8153400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9" descr="구름"/>
          <p:cNvPicPr/>
          <p:nvPr/>
        </p:nvPicPr>
        <p:blipFill>
          <a:blip r:embed="rId3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구름"/>
          <p:cNvPicPr/>
          <p:nvPr/>
        </p:nvPicPr>
        <p:blipFill>
          <a:blip r:embed="rId4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757080" y="1447920"/>
            <a:ext cx="762984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商的变化规律的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302080" y="503280"/>
            <a:ext cx="33847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Times New Roman"/>
              </a:rPr>
              <a:t>二    三位数除以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图片 67" descr="海报.png"/>
          <p:cNvPicPr/>
          <p:nvPr/>
        </p:nvPicPr>
        <p:blipFill>
          <a:blip r:embed="rId5"/>
          <a:stretch/>
        </p:blipFill>
        <p:spPr>
          <a:xfrm>
            <a:off x="674640" y="3227400"/>
            <a:ext cx="2428920" cy="3238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grpSp>
        <p:nvGrpSpPr>
          <p:cNvPr id="57" name="AutoShape 508"/>
          <p:cNvGrpSpPr/>
          <p:nvPr/>
        </p:nvGrpSpPr>
        <p:grpSpPr>
          <a:xfrm>
            <a:off x="457200" y="981000"/>
            <a:ext cx="8236080" cy="2243160"/>
            <a:chOff x="457200" y="981000"/>
            <a:chExt cx="8236080" cy="2243160"/>
          </a:xfrm>
        </p:grpSpPr>
        <p:pic>
          <p:nvPicPr>
            <p:cNvPr id="58" name="AutoShape 508" descr=""/>
            <p:cNvPicPr/>
            <p:nvPr/>
          </p:nvPicPr>
          <p:blipFill>
            <a:blip r:embed="rId7"/>
            <a:stretch/>
          </p:blipFill>
          <p:spPr>
            <a:xfrm>
              <a:off x="457200" y="981000"/>
              <a:ext cx="82360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28480" y="1050840"/>
              <a:ext cx="8087040" cy="21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grpSp>
        <p:nvGrpSpPr>
          <p:cNvPr id="61" name="椭圆 8"/>
          <p:cNvGrpSpPr/>
          <p:nvPr/>
        </p:nvGrpSpPr>
        <p:grpSpPr>
          <a:xfrm>
            <a:off x="274680" y="1305000"/>
            <a:ext cx="444600" cy="444600"/>
            <a:chOff x="274680" y="1305000"/>
            <a:chExt cx="444600" cy="444600"/>
          </a:xfrm>
        </p:grpSpPr>
        <p:pic>
          <p:nvPicPr>
            <p:cNvPr id="62" name="椭圆 8" descr=""/>
            <p:cNvPicPr/>
            <p:nvPr/>
          </p:nvPicPr>
          <p:blipFill>
            <a:blip r:embed="rId9"/>
            <a:stretch/>
          </p:blipFill>
          <p:spPr>
            <a:xfrm>
              <a:off x="27468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7800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椭圆 82"/>
          <p:cNvGrpSpPr/>
          <p:nvPr/>
        </p:nvGrpSpPr>
        <p:grpSpPr>
          <a:xfrm>
            <a:off x="274680" y="1944720"/>
            <a:ext cx="444600" cy="444600"/>
            <a:chOff x="274680" y="1944720"/>
            <a:chExt cx="444600" cy="444600"/>
          </a:xfrm>
        </p:grpSpPr>
        <p:pic>
          <p:nvPicPr>
            <p:cNvPr id="65" name="椭圆 82" descr=""/>
            <p:cNvPicPr/>
            <p:nvPr/>
          </p:nvPicPr>
          <p:blipFill>
            <a:blip r:embed="rId10"/>
            <a:stretch/>
          </p:blipFill>
          <p:spPr>
            <a:xfrm>
              <a:off x="27468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7800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椭圆 85"/>
          <p:cNvGrpSpPr/>
          <p:nvPr/>
        </p:nvGrpSpPr>
        <p:grpSpPr>
          <a:xfrm>
            <a:off x="274680" y="2584440"/>
            <a:ext cx="444600" cy="444600"/>
            <a:chOff x="274680" y="2584440"/>
            <a:chExt cx="444600" cy="444600"/>
          </a:xfrm>
        </p:grpSpPr>
        <p:pic>
          <p:nvPicPr>
            <p:cNvPr id="68" name="椭圆 85" descr=""/>
            <p:cNvPicPr/>
            <p:nvPr/>
          </p:nvPicPr>
          <p:blipFill>
            <a:blip r:embed="rId11"/>
            <a:stretch/>
          </p:blipFill>
          <p:spPr>
            <a:xfrm>
              <a:off x="27468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7800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椭圆 88"/>
          <p:cNvGrpSpPr/>
          <p:nvPr/>
        </p:nvGrpSpPr>
        <p:grpSpPr>
          <a:xfrm>
            <a:off x="8424720" y="1305000"/>
            <a:ext cx="444600" cy="444600"/>
            <a:chOff x="8424720" y="1305000"/>
            <a:chExt cx="444600" cy="444600"/>
          </a:xfrm>
        </p:grpSpPr>
        <p:pic>
          <p:nvPicPr>
            <p:cNvPr id="71" name="椭圆 88" descr=""/>
            <p:cNvPicPr/>
            <p:nvPr/>
          </p:nvPicPr>
          <p:blipFill>
            <a:blip r:embed="rId12"/>
            <a:stretch/>
          </p:blipFill>
          <p:spPr>
            <a:xfrm>
              <a:off x="8424720" y="130500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8529480" y="138420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椭圆 96"/>
          <p:cNvGrpSpPr/>
          <p:nvPr/>
        </p:nvGrpSpPr>
        <p:grpSpPr>
          <a:xfrm>
            <a:off x="8424720" y="1944720"/>
            <a:ext cx="444600" cy="444600"/>
            <a:chOff x="8424720" y="1944720"/>
            <a:chExt cx="444600" cy="444600"/>
          </a:xfrm>
        </p:grpSpPr>
        <p:pic>
          <p:nvPicPr>
            <p:cNvPr id="74" name="椭圆 96" descr=""/>
            <p:cNvPicPr/>
            <p:nvPr/>
          </p:nvPicPr>
          <p:blipFill>
            <a:blip r:embed="rId13"/>
            <a:stretch/>
          </p:blipFill>
          <p:spPr>
            <a:xfrm>
              <a:off x="8424720" y="194472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529480" y="202572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椭圆 97"/>
          <p:cNvGrpSpPr/>
          <p:nvPr/>
        </p:nvGrpSpPr>
        <p:grpSpPr>
          <a:xfrm>
            <a:off x="8424720" y="2584440"/>
            <a:ext cx="444600" cy="444600"/>
            <a:chOff x="8424720" y="2584440"/>
            <a:chExt cx="444600" cy="444600"/>
          </a:xfrm>
        </p:grpSpPr>
        <p:pic>
          <p:nvPicPr>
            <p:cNvPr id="77" name="椭圆 97" descr=""/>
            <p:cNvPicPr/>
            <p:nvPr/>
          </p:nvPicPr>
          <p:blipFill>
            <a:blip r:embed="rId14"/>
            <a:stretch/>
          </p:blipFill>
          <p:spPr>
            <a:xfrm>
              <a:off x="8424720" y="2584440"/>
              <a:ext cx="4446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529480" y="2666880"/>
              <a:ext cx="23652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11"/>
          <p:cNvGrpSpPr/>
          <p:nvPr/>
        </p:nvGrpSpPr>
        <p:grpSpPr>
          <a:xfrm>
            <a:off x="957240" y="1074600"/>
            <a:ext cx="6248520" cy="733680"/>
            <a:chOff x="957240" y="1074600"/>
            <a:chExt cx="6248520" cy="733680"/>
          </a:xfrm>
        </p:grpSpPr>
        <p:pic>
          <p:nvPicPr>
            <p:cNvPr id="190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8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文本框 23"/>
            <p:cNvSpPr/>
            <p:nvPr/>
          </p:nvSpPr>
          <p:spPr>
            <a:xfrm>
              <a:off x="1279440" y="1074600"/>
              <a:ext cx="5926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易错辨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4"/>
          <p:cNvGrpSpPr/>
          <p:nvPr/>
        </p:nvGrpSpPr>
        <p:grpSpPr>
          <a:xfrm>
            <a:off x="1082880" y="1906560"/>
            <a:ext cx="4209480" cy="3758400"/>
            <a:chOff x="1082880" y="1906560"/>
            <a:chExt cx="4209480" cy="3758400"/>
          </a:xfrm>
        </p:grpSpPr>
        <p:sp>
          <p:nvSpPr>
            <p:cNvPr id="193" name="TextBox 36"/>
            <p:cNvSpPr/>
            <p:nvPr/>
          </p:nvSpPr>
          <p:spPr>
            <a:xfrm>
              <a:off x="1874520" y="1906560"/>
              <a:ext cx="267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．下面的计算对吗？不对请改正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50÷60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2……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15"/>
            <p:cNvGrpSpPr/>
            <p:nvPr/>
          </p:nvGrpSpPr>
          <p:grpSpPr>
            <a:xfrm>
              <a:off x="1082880" y="2342520"/>
              <a:ext cx="4209480" cy="3322440"/>
              <a:chOff x="1082880" y="2342520"/>
              <a:chExt cx="4209480" cy="3322440"/>
            </a:xfrm>
          </p:grpSpPr>
          <p:grpSp>
            <p:nvGrpSpPr>
              <p:cNvPr id="195" name="组合 17"/>
              <p:cNvGrpSpPr/>
              <p:nvPr/>
            </p:nvGrpSpPr>
            <p:grpSpPr>
              <a:xfrm>
                <a:off x="1082880" y="2802600"/>
                <a:ext cx="3283200" cy="2837160"/>
                <a:chOff x="1082880" y="2802600"/>
                <a:chExt cx="3283200" cy="2837160"/>
              </a:xfrm>
            </p:grpSpPr>
            <p:grpSp>
              <p:nvGrpSpPr>
                <p:cNvPr id="196" name="组合 20"/>
                <p:cNvGrpSpPr/>
                <p:nvPr/>
              </p:nvGrpSpPr>
              <p:grpSpPr>
                <a:xfrm>
                  <a:off x="1588320" y="2802600"/>
                  <a:ext cx="2777760" cy="2837160"/>
                  <a:chOff x="1588320" y="2802600"/>
                  <a:chExt cx="2777760" cy="2837160"/>
                </a:xfrm>
              </p:grpSpPr>
              <p:sp>
                <p:nvSpPr>
                  <p:cNvPr id="197" name="矩形 17"/>
                  <p:cNvSpPr/>
                  <p:nvPr/>
                </p:nvSpPr>
                <p:spPr>
                  <a:xfrm>
                    <a:off x="1588320" y="3401640"/>
                    <a:ext cx="500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98" name="组合 1"/>
                  <p:cNvGrpSpPr/>
                  <p:nvPr/>
                </p:nvGrpSpPr>
                <p:grpSpPr>
                  <a:xfrm>
                    <a:off x="2074320" y="2802600"/>
                    <a:ext cx="2291760" cy="2837160"/>
                    <a:chOff x="2074320" y="2802600"/>
                    <a:chExt cx="2291760" cy="2837160"/>
                  </a:xfrm>
                </p:grpSpPr>
                <p:sp>
                  <p:nvSpPr>
                    <p:cNvPr id="199" name="TextBox 19"/>
                    <p:cNvSpPr/>
                    <p:nvPr/>
                  </p:nvSpPr>
                  <p:spPr>
                    <a:xfrm>
                      <a:off x="2130840" y="2802600"/>
                      <a:ext cx="2235240" cy="2837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2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5 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0" name="直接连接符 18"/>
                    <p:cNvSpPr/>
                    <p:nvPr/>
                  </p:nvSpPr>
                  <p:spPr>
                    <a:xfrm>
                      <a:off x="2074320" y="4243320"/>
                      <a:ext cx="159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01" name="直接连接符 19"/>
                    <p:cNvSpPr/>
                    <p:nvPr/>
                  </p:nvSpPr>
                  <p:spPr>
                    <a:xfrm>
                      <a:off x="2074320" y="5140800"/>
                      <a:ext cx="1593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202" name="组合 21"/>
                <p:cNvGrpSpPr/>
                <p:nvPr/>
              </p:nvGrpSpPr>
              <p:grpSpPr>
                <a:xfrm>
                  <a:off x="1082880" y="2868480"/>
                  <a:ext cx="2521800" cy="1257840"/>
                  <a:chOff x="1082880" y="2868480"/>
                  <a:chExt cx="2521800" cy="1257840"/>
                </a:xfrm>
              </p:grpSpPr>
              <p:sp>
                <p:nvSpPr>
                  <p:cNvPr id="203" name="直接连接符 13"/>
                  <p:cNvSpPr/>
                  <p:nvPr/>
                </p:nvSpPr>
                <p:spPr>
                  <a:xfrm>
                    <a:off x="2151720" y="3394800"/>
                    <a:ext cx="1452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弧形 14"/>
                  <p:cNvSpPr/>
                  <p:nvPr/>
                </p:nvSpPr>
                <p:spPr>
                  <a:xfrm rot="4684800">
                    <a:off x="1141200" y="3000960"/>
                    <a:ext cx="1076040" cy="992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5324" h="991893">
                        <a:moveTo>
                          <a:pt x="537662" y="0"/>
                        </a:moveTo>
                        <a:cubicBezTo>
                          <a:pt x="733176" y="0"/>
                          <a:pt x="913279" y="97898"/>
                          <a:pt x="1008005" y="255662"/>
                        </a:cubicBezTo>
                        <a:lnTo>
                          <a:pt x="537662" y="495947"/>
                        </a:lnTo>
                        <a:lnTo>
                          <a:pt x="537662" y="0"/>
                        </a:lnTo>
                        <a:close/>
                      </a:path>
                      <a:path fill="none" w="1075324" h="991893">
                        <a:moveTo>
                          <a:pt x="537662" y="0"/>
                        </a:moveTo>
                        <a:cubicBezTo>
                          <a:pt x="733176" y="0"/>
                          <a:pt x="913279" y="97898"/>
                          <a:pt x="1008005" y="255662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05" name="矩形 18"/>
              <p:cNvSpPr/>
              <p:nvPr/>
            </p:nvSpPr>
            <p:spPr>
              <a:xfrm>
                <a:off x="3616920" y="5113800"/>
                <a:ext cx="969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(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</a:rPr>
                  <a:t>　　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9"/>
              <p:cNvSpPr/>
              <p:nvPr/>
            </p:nvSpPr>
            <p:spPr>
              <a:xfrm>
                <a:off x="4654440" y="2342520"/>
                <a:ext cx="63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Calibri"/>
                  </a:rPr>
                  <a:t>改正：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07" name="矩形 22"/>
          <p:cNvSpPr/>
          <p:nvPr/>
        </p:nvSpPr>
        <p:spPr>
          <a:xfrm>
            <a:off x="5049720" y="2376360"/>
            <a:ext cx="3409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0÷6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……3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3914280" y="521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24"/>
          <p:cNvGrpSpPr/>
          <p:nvPr/>
        </p:nvGrpSpPr>
        <p:grpSpPr>
          <a:xfrm>
            <a:off x="5059080" y="2879640"/>
            <a:ext cx="3245040" cy="3294360"/>
            <a:chOff x="5059080" y="2879640"/>
            <a:chExt cx="3245040" cy="3294360"/>
          </a:xfrm>
        </p:grpSpPr>
        <p:grpSp>
          <p:nvGrpSpPr>
            <p:cNvPr id="210" name="组合 3"/>
            <p:cNvGrpSpPr/>
            <p:nvPr/>
          </p:nvGrpSpPr>
          <p:grpSpPr>
            <a:xfrm>
              <a:off x="5540400" y="2879640"/>
              <a:ext cx="2763720" cy="3294360"/>
              <a:chOff x="5540400" y="2879640"/>
              <a:chExt cx="2763720" cy="3294360"/>
            </a:xfrm>
          </p:grpSpPr>
          <p:sp>
            <p:nvSpPr>
              <p:cNvPr id="211" name="矩形 13"/>
              <p:cNvSpPr/>
              <p:nvPr/>
            </p:nvSpPr>
            <p:spPr>
              <a:xfrm>
                <a:off x="5540400" y="3526560"/>
                <a:ext cx="50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60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2" name="组合 1"/>
              <p:cNvGrpSpPr/>
              <p:nvPr/>
            </p:nvGrpSpPr>
            <p:grpSpPr>
              <a:xfrm>
                <a:off x="5989320" y="2879640"/>
                <a:ext cx="2314800" cy="3294360"/>
                <a:chOff x="5989320" y="2879640"/>
                <a:chExt cx="2314800" cy="3294360"/>
              </a:xfrm>
            </p:grpSpPr>
            <p:sp>
              <p:nvSpPr>
                <p:cNvPr id="213" name="TextBox 15"/>
                <p:cNvSpPr/>
                <p:nvPr/>
              </p:nvSpPr>
              <p:spPr>
                <a:xfrm>
                  <a:off x="6072120" y="2879640"/>
                  <a:ext cx="2232000" cy="329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2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7  5  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6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5 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1  2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 </a:t>
                  </a: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3  0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      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直接连接符 32"/>
                <p:cNvSpPr/>
                <p:nvPr/>
              </p:nvSpPr>
              <p:spPr>
                <a:xfrm>
                  <a:off x="5998680" y="432756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直接连接符 33"/>
                <p:cNvSpPr/>
                <p:nvPr/>
              </p:nvSpPr>
              <p:spPr>
                <a:xfrm>
                  <a:off x="5989320" y="5218200"/>
                  <a:ext cx="158940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6" name="组合 16"/>
            <p:cNvGrpSpPr/>
            <p:nvPr/>
          </p:nvGrpSpPr>
          <p:grpSpPr>
            <a:xfrm>
              <a:off x="5059080" y="2945880"/>
              <a:ext cx="2520000" cy="1258560"/>
              <a:chOff x="5059080" y="2945880"/>
              <a:chExt cx="2520000" cy="1258560"/>
            </a:xfrm>
          </p:grpSpPr>
          <p:sp>
            <p:nvSpPr>
              <p:cNvPr id="217" name="直接连接符 27"/>
              <p:cNvSpPr/>
              <p:nvPr/>
            </p:nvSpPr>
            <p:spPr>
              <a:xfrm>
                <a:off x="6127920" y="3473280"/>
                <a:ext cx="14511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弧形 28"/>
              <p:cNvSpPr/>
              <p:nvPr/>
            </p:nvSpPr>
            <p:spPr>
              <a:xfrm rot="4684800">
                <a:off x="5117400" y="3078720"/>
                <a:ext cx="1076760" cy="992160"/>
              </a:xfrm>
              <a:custGeom>
                <a:avLst/>
                <a:gdLst/>
                <a:ahLst/>
                <a:rect l="l" t="t" r="r" b="b"/>
                <a:pathLst>
                  <a:path stroke="0" w="1076248" h="992592">
                    <a:moveTo>
                      <a:pt x="538124" y="0"/>
                    </a:moveTo>
                    <a:cubicBezTo>
                      <a:pt x="733793" y="0"/>
                      <a:pt x="914042" y="97955"/>
                      <a:pt x="1008854" y="255814"/>
                    </a:cubicBezTo>
                    <a:lnTo>
                      <a:pt x="538124" y="496296"/>
                    </a:lnTo>
                    <a:lnTo>
                      <a:pt x="538124" y="0"/>
                    </a:lnTo>
                    <a:close/>
                  </a:path>
                  <a:path fill="none" w="1076248" h="992592">
                    <a:moveTo>
                      <a:pt x="538124" y="0"/>
                    </a:moveTo>
                    <a:cubicBezTo>
                      <a:pt x="733793" y="0"/>
                      <a:pt x="914042" y="97955"/>
                      <a:pt x="1008854" y="255814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9" name="矩形 34"/>
          <p:cNvSpPr/>
          <p:nvPr/>
        </p:nvSpPr>
        <p:spPr>
          <a:xfrm>
            <a:off x="4197600" y="573732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辨析：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余数没有还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0" y="4846680"/>
            <a:ext cx="9144000" cy="201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4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6" descr="꽃"/>
          <p:cNvPicPr/>
          <p:nvPr/>
        </p:nvPicPr>
        <p:blipFill>
          <a:blip r:embed="rId4"/>
          <a:stretch/>
        </p:blipFill>
        <p:spPr>
          <a:xfrm>
            <a:off x="3003480" y="3156120"/>
            <a:ext cx="3137040" cy="3027240"/>
          </a:xfrm>
          <a:prstGeom prst="rect">
            <a:avLst/>
          </a:prstGeom>
          <a:ln w="0">
            <a:noFill/>
          </a:ln>
        </p:spPr>
      </p:pic>
      <p:sp>
        <p:nvSpPr>
          <p:cNvPr id="226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矩形 12" descr=""/>
          <p:cNvPicPr/>
          <p:nvPr/>
        </p:nvPicPr>
        <p:blipFill>
          <a:blip r:embed="rId5"/>
          <a:stretch/>
        </p:blipFill>
        <p:spPr>
          <a:xfrm>
            <a:off x="938160" y="1328760"/>
            <a:ext cx="726768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45" descr="枫叶副本.gif"/>
          <p:cNvPicPr/>
          <p:nvPr/>
        </p:nvPicPr>
        <p:blipFill>
          <a:blip r:embed="rId1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1276200" y="1989000"/>
            <a:ext cx="64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被除数和除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乘或除以相同的数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除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商不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 30"/>
          <p:cNvGrpSpPr/>
          <p:nvPr/>
        </p:nvGrpSpPr>
        <p:grpSpPr>
          <a:xfrm>
            <a:off x="-369720" y="4599000"/>
            <a:ext cx="1660320" cy="2216160"/>
            <a:chOff x="-369720" y="4599000"/>
            <a:chExt cx="1660320" cy="2216160"/>
          </a:xfrm>
        </p:grpSpPr>
        <p:pic>
          <p:nvPicPr>
            <p:cNvPr id="82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TextBox 19"/>
          <p:cNvSpPr/>
          <p:nvPr/>
        </p:nvSpPr>
        <p:spPr>
          <a:xfrm>
            <a:off x="1498680" y="20494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670120" y="16844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754200" y="1722600"/>
            <a:ext cx="7081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利用商不变的规律，可以简化整十、整百的数除以整十数的计算。如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4"/>
          <p:cNvGrpSpPr/>
          <p:nvPr/>
        </p:nvGrpSpPr>
        <p:grpSpPr>
          <a:xfrm>
            <a:off x="2044800" y="2630520"/>
            <a:ext cx="3295440" cy="496800"/>
            <a:chOff x="2044800" y="2630520"/>
            <a:chExt cx="3295440" cy="496800"/>
          </a:xfrm>
        </p:grpSpPr>
        <p:grpSp>
          <p:nvGrpSpPr>
            <p:cNvPr id="88" name="组合 12"/>
            <p:cNvGrpSpPr/>
            <p:nvPr/>
          </p:nvGrpSpPr>
          <p:grpSpPr>
            <a:xfrm>
              <a:off x="2044800" y="2630520"/>
              <a:ext cx="3295440" cy="485280"/>
              <a:chOff x="2044800" y="2630520"/>
              <a:chExt cx="3295440" cy="485280"/>
            </a:xfrm>
          </p:grpSpPr>
          <p:sp>
            <p:nvSpPr>
              <p:cNvPr id="89" name="矩形 9"/>
              <p:cNvSpPr/>
              <p:nvPr/>
            </p:nvSpPr>
            <p:spPr>
              <a:xfrm>
                <a:off x="2044800" y="2630520"/>
                <a:ext cx="329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0÷4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······       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矩形 10"/>
              <p:cNvSpPr/>
              <p:nvPr/>
            </p:nvSpPr>
            <p:spPr>
              <a:xfrm>
                <a:off x="3621240" y="2687400"/>
                <a:ext cx="426960" cy="428400"/>
              </a:xfrm>
              <a:prstGeom prst="rect">
                <a:avLst/>
              </a:prstGeom>
              <a:noFill/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91" name="Picture 2" descr=""/>
            <p:cNvPicPr/>
            <p:nvPr/>
          </p:nvPicPr>
          <p:blipFill>
            <a:blip r:embed="rId3"/>
            <a:stretch/>
          </p:blipFill>
          <p:spPr>
            <a:xfrm>
              <a:off x="4791600" y="2686680"/>
              <a:ext cx="439920" cy="44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组合 13"/>
          <p:cNvGrpSpPr/>
          <p:nvPr/>
        </p:nvGrpSpPr>
        <p:grpSpPr>
          <a:xfrm>
            <a:off x="990720" y="3548160"/>
            <a:ext cx="3055680" cy="1382760"/>
            <a:chOff x="990720" y="3548160"/>
            <a:chExt cx="3055680" cy="1382760"/>
          </a:xfrm>
        </p:grpSpPr>
        <p:pic>
          <p:nvPicPr>
            <p:cNvPr id="93" name="Picture 3" descr=""/>
            <p:cNvPicPr/>
            <p:nvPr/>
          </p:nvPicPr>
          <p:blipFill>
            <a:blip r:embed="rId4"/>
            <a:stretch/>
          </p:blipFill>
          <p:spPr>
            <a:xfrm>
              <a:off x="990720" y="3790800"/>
              <a:ext cx="738000" cy="114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4" descr=""/>
            <p:cNvPicPr/>
            <p:nvPr/>
          </p:nvPicPr>
          <p:blipFill>
            <a:blip r:embed="rId5"/>
            <a:stretch/>
          </p:blipFill>
          <p:spPr>
            <a:xfrm>
              <a:off x="1782360" y="3548160"/>
              <a:ext cx="2264040" cy="88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Picture 5" descr=""/>
          <p:cNvPicPr/>
          <p:nvPr/>
        </p:nvPicPr>
        <p:blipFill>
          <a:blip r:embed="rId6"/>
          <a:stretch/>
        </p:blipFill>
        <p:spPr>
          <a:xfrm>
            <a:off x="5010120" y="3782880"/>
            <a:ext cx="3519360" cy="159228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1"/>
          <p:cNvGrpSpPr/>
          <p:nvPr/>
        </p:nvGrpSpPr>
        <p:grpSpPr>
          <a:xfrm>
            <a:off x="479520" y="1000080"/>
            <a:ext cx="5959440" cy="666720"/>
            <a:chOff x="479520" y="1000080"/>
            <a:chExt cx="5959440" cy="666720"/>
          </a:xfrm>
        </p:grpSpPr>
        <p:sp>
          <p:nvSpPr>
            <p:cNvPr id="97" name="文本框 13"/>
            <p:cNvSpPr/>
            <p:nvPr/>
          </p:nvSpPr>
          <p:spPr>
            <a:xfrm>
              <a:off x="1638000" y="1071360"/>
              <a:ext cx="4800960" cy="5954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    商不变规律的应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8" name="图片 9" descr="book.gif"/>
            <p:cNvPicPr/>
            <p:nvPr/>
          </p:nvPicPr>
          <p:blipFill>
            <a:blip r:embed="rId7"/>
            <a:stretch/>
          </p:blipFill>
          <p:spPr>
            <a:xfrm>
              <a:off x="479520" y="100008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矩形 1"/>
          <p:cNvSpPr/>
          <p:nvPr/>
        </p:nvSpPr>
        <p:spPr>
          <a:xfrm>
            <a:off x="3591720" y="2654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4784760" y="2687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12"/>
          <p:cNvGrpSpPr/>
          <p:nvPr/>
        </p:nvGrpSpPr>
        <p:grpSpPr>
          <a:xfrm>
            <a:off x="1060560" y="1058760"/>
            <a:ext cx="4773600" cy="733680"/>
            <a:chOff x="1060560" y="1058760"/>
            <a:chExt cx="4773600" cy="733680"/>
          </a:xfrm>
        </p:grpSpPr>
        <p:pic>
          <p:nvPicPr>
            <p:cNvPr id="10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31724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文本框 23"/>
            <p:cNvSpPr/>
            <p:nvPr/>
          </p:nvSpPr>
          <p:spPr>
            <a:xfrm>
              <a:off x="1311120" y="105876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组合 1"/>
          <p:cNvGrpSpPr/>
          <p:nvPr/>
        </p:nvGrpSpPr>
        <p:grpSpPr>
          <a:xfrm>
            <a:off x="969840" y="2177640"/>
            <a:ext cx="7215480" cy="1565640"/>
            <a:chOff x="969840" y="2177640"/>
            <a:chExt cx="7215480" cy="1565640"/>
          </a:xfrm>
        </p:grpSpPr>
        <p:sp>
          <p:nvSpPr>
            <p:cNvPr id="105" name="TextBox 36"/>
            <p:cNvSpPr/>
            <p:nvPr/>
          </p:nvSpPr>
          <p:spPr>
            <a:xfrm>
              <a:off x="969840" y="2552040"/>
              <a:ext cx="721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计算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50÷5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可以这样算：              被除数和除数同时划去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就是同时除以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商不变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6" name="组合 10"/>
            <p:cNvGrpSpPr/>
            <p:nvPr/>
          </p:nvGrpSpPr>
          <p:grpSpPr>
            <a:xfrm>
              <a:off x="4294080" y="2177640"/>
              <a:ext cx="2371320" cy="1260000"/>
              <a:chOff x="4294080" y="2177640"/>
              <a:chExt cx="2371320" cy="1260000"/>
            </a:xfrm>
          </p:grpSpPr>
          <p:grpSp>
            <p:nvGrpSpPr>
              <p:cNvPr id="107" name="组合 11"/>
              <p:cNvGrpSpPr/>
              <p:nvPr/>
            </p:nvGrpSpPr>
            <p:grpSpPr>
              <a:xfrm>
                <a:off x="4294080" y="2177640"/>
                <a:ext cx="2371320" cy="1260000"/>
                <a:chOff x="4294080" y="2177640"/>
                <a:chExt cx="2371320" cy="1260000"/>
              </a:xfrm>
            </p:grpSpPr>
            <p:grpSp>
              <p:nvGrpSpPr>
                <p:cNvPr id="108" name="组合 25"/>
                <p:cNvGrpSpPr/>
                <p:nvPr/>
              </p:nvGrpSpPr>
              <p:grpSpPr>
                <a:xfrm>
                  <a:off x="4294080" y="2177640"/>
                  <a:ext cx="1665360" cy="1260000"/>
                  <a:chOff x="4294080" y="2177640"/>
                  <a:chExt cx="1665360" cy="1260000"/>
                </a:xfrm>
              </p:grpSpPr>
              <p:sp>
                <p:nvSpPr>
                  <p:cNvPr id="109" name="直接连接符 10"/>
                  <p:cNvSpPr/>
                  <p:nvPr/>
                </p:nvSpPr>
                <p:spPr>
                  <a:xfrm>
                    <a:off x="5364000" y="2705040"/>
                    <a:ext cx="59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10" name="弧形 11"/>
                  <p:cNvSpPr/>
                  <p:nvPr/>
                </p:nvSpPr>
                <p:spPr>
                  <a:xfrm rot="4684800">
                    <a:off x="4352040" y="2311200"/>
                    <a:ext cx="1078200" cy="99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6938" h="991266">
                        <a:moveTo>
                          <a:pt x="538469" y="0"/>
                        </a:moveTo>
                        <a:cubicBezTo>
                          <a:pt x="672902" y="0"/>
                          <a:pt x="802472" y="46285"/>
                          <a:pt x="901710" y="129757"/>
                        </a:cubicBezTo>
                        <a:lnTo>
                          <a:pt x="538469" y="495633"/>
                        </a:lnTo>
                        <a:lnTo>
                          <a:pt x="538469" y="0"/>
                        </a:lnTo>
                        <a:close/>
                      </a:path>
                      <a:path fill="none" w="1076938" h="991266">
                        <a:moveTo>
                          <a:pt x="538469" y="0"/>
                        </a:moveTo>
                        <a:cubicBezTo>
                          <a:pt x="672902" y="0"/>
                          <a:pt x="802472" y="46285"/>
                          <a:pt x="901710" y="129757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11" name="TextBox 15"/>
                <p:cNvSpPr/>
                <p:nvPr/>
              </p:nvSpPr>
              <p:spPr>
                <a:xfrm>
                  <a:off x="5374080" y="2550600"/>
                  <a:ext cx="1291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5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2" name="矩形 36"/>
              <p:cNvSpPr/>
              <p:nvPr/>
            </p:nvSpPr>
            <p:spPr>
              <a:xfrm>
                <a:off x="4748400" y="2680200"/>
                <a:ext cx="72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82440" indent="-8244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3" name="矩形 2"/>
          <p:cNvSpPr/>
          <p:nvPr/>
        </p:nvSpPr>
        <p:spPr>
          <a:xfrm>
            <a:off x="2994840" y="323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6481800" y="3105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8"/>
          <p:cNvGrpSpPr/>
          <p:nvPr/>
        </p:nvGrpSpPr>
        <p:grpSpPr>
          <a:xfrm>
            <a:off x="905760" y="1306440"/>
            <a:ext cx="7258680" cy="4749480"/>
            <a:chOff x="905760" y="1306440"/>
            <a:chExt cx="7258680" cy="4749480"/>
          </a:xfrm>
        </p:grpSpPr>
        <p:grpSp>
          <p:nvGrpSpPr>
            <p:cNvPr id="116" name="组合 1"/>
            <p:cNvGrpSpPr/>
            <p:nvPr/>
          </p:nvGrpSpPr>
          <p:grpSpPr>
            <a:xfrm>
              <a:off x="905760" y="1306440"/>
              <a:ext cx="7258680" cy="4749480"/>
              <a:chOff x="905760" y="1306440"/>
              <a:chExt cx="7258680" cy="4749480"/>
            </a:xfrm>
          </p:grpSpPr>
          <p:sp>
            <p:nvSpPr>
              <p:cNvPr id="117" name="TextBox 36"/>
              <p:cNvSpPr/>
              <p:nvPr/>
            </p:nvSpPr>
            <p:spPr>
              <a:xfrm>
                <a:off x="1027080" y="1306440"/>
                <a:ext cx="71373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0720" indent="-45072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．接着算，再验算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marL="450720" indent="-450720"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40÷7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8" name="组合 2"/>
              <p:cNvGrpSpPr/>
              <p:nvPr/>
            </p:nvGrpSpPr>
            <p:grpSpPr>
              <a:xfrm>
                <a:off x="905760" y="2670120"/>
                <a:ext cx="3353400" cy="3385800"/>
                <a:chOff x="905760" y="2670120"/>
                <a:chExt cx="3353400" cy="3385800"/>
              </a:xfrm>
            </p:grpSpPr>
            <p:grpSp>
              <p:nvGrpSpPr>
                <p:cNvPr id="119" name="组合 3"/>
                <p:cNvGrpSpPr/>
                <p:nvPr/>
              </p:nvGrpSpPr>
              <p:grpSpPr>
                <a:xfrm>
                  <a:off x="1388880" y="2670120"/>
                  <a:ext cx="2870280" cy="3385800"/>
                  <a:chOff x="1388880" y="2670120"/>
                  <a:chExt cx="2870280" cy="3385800"/>
                </a:xfrm>
              </p:grpSpPr>
              <p:sp>
                <p:nvSpPr>
                  <p:cNvPr id="120" name="矩形 13"/>
                  <p:cNvSpPr/>
                  <p:nvPr/>
                </p:nvSpPr>
                <p:spPr>
                  <a:xfrm>
                    <a:off x="1388880" y="3317040"/>
                    <a:ext cx="5619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21" name="组合 1"/>
                  <p:cNvGrpSpPr/>
                  <p:nvPr/>
                </p:nvGrpSpPr>
                <p:grpSpPr>
                  <a:xfrm>
                    <a:off x="1896840" y="2670120"/>
                    <a:ext cx="2362320" cy="3385800"/>
                    <a:chOff x="1896840" y="2670120"/>
                    <a:chExt cx="2362320" cy="3385800"/>
                  </a:xfrm>
                </p:grpSpPr>
                <p:sp>
                  <p:nvSpPr>
                    <p:cNvPr id="122" name="TextBox 15"/>
                    <p:cNvSpPr/>
                    <p:nvPr/>
                  </p:nvSpPr>
                  <p:spPr>
                    <a:xfrm>
                      <a:off x="2026440" y="2670120"/>
                      <a:ext cx="2232720" cy="338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4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 4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23" name="直接连接符 10"/>
                    <p:cNvSpPr/>
                    <p:nvPr/>
                  </p:nvSpPr>
                  <p:spPr>
                    <a:xfrm>
                      <a:off x="1896840" y="4343400"/>
                      <a:ext cx="1589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24" name="组合 16"/>
                <p:cNvGrpSpPr/>
                <p:nvPr/>
              </p:nvGrpSpPr>
              <p:grpSpPr>
                <a:xfrm>
                  <a:off x="905760" y="2736360"/>
                  <a:ext cx="2521080" cy="1258560"/>
                  <a:chOff x="905760" y="2736360"/>
                  <a:chExt cx="2521080" cy="1258560"/>
                </a:xfrm>
              </p:grpSpPr>
              <p:sp>
                <p:nvSpPr>
                  <p:cNvPr id="125" name="直接连接符 5"/>
                  <p:cNvSpPr/>
                  <p:nvPr/>
                </p:nvSpPr>
                <p:spPr>
                  <a:xfrm>
                    <a:off x="1974600" y="3263760"/>
                    <a:ext cx="1452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26" name="弧形 6"/>
                  <p:cNvSpPr/>
                  <p:nvPr/>
                </p:nvSpPr>
                <p:spPr>
                  <a:xfrm rot="4684800">
                    <a:off x="963720" y="2869560"/>
                    <a:ext cx="1076760" cy="99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6337" h="992313">
                        <a:moveTo>
                          <a:pt x="538168" y="0"/>
                        </a:moveTo>
                        <a:cubicBezTo>
                          <a:pt x="733824" y="0"/>
                          <a:pt x="914065" y="97898"/>
                          <a:pt x="1008897" y="255675"/>
                        </a:cubicBezTo>
                        <a:lnTo>
                          <a:pt x="538169" y="496157"/>
                        </a:lnTo>
                        <a:cubicBezTo>
                          <a:pt x="538169" y="330771"/>
                          <a:pt x="538168" y="165386"/>
                          <a:pt x="538168" y="0"/>
                        </a:cubicBezTo>
                        <a:close/>
                      </a:path>
                      <a:path fill="none" w="1076337" h="992313">
                        <a:moveTo>
                          <a:pt x="538168" y="0"/>
                        </a:moveTo>
                        <a:cubicBezTo>
                          <a:pt x="733824" y="0"/>
                          <a:pt x="914065" y="97898"/>
                          <a:pt x="1008897" y="25567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27" name="矩形 19"/>
              <p:cNvSpPr/>
              <p:nvPr/>
            </p:nvSpPr>
            <p:spPr>
              <a:xfrm>
                <a:off x="4770000" y="296496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</a:rPr>
                  <a:t>验算：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接连接符 13"/>
            <p:cNvSpPr/>
            <p:nvPr/>
          </p:nvSpPr>
          <p:spPr>
            <a:xfrm>
              <a:off x="1693800" y="3376440"/>
              <a:ext cx="14760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接连接符 19"/>
            <p:cNvSpPr/>
            <p:nvPr/>
          </p:nvSpPr>
          <p:spPr>
            <a:xfrm>
              <a:off x="2881440" y="3422520"/>
              <a:ext cx="147600" cy="33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12"/>
          <p:cNvGrpSpPr/>
          <p:nvPr/>
        </p:nvGrpSpPr>
        <p:grpSpPr>
          <a:xfrm>
            <a:off x="5570640" y="2550960"/>
            <a:ext cx="4957560" cy="1739880"/>
            <a:chOff x="5570640" y="2550960"/>
            <a:chExt cx="4957560" cy="1739880"/>
          </a:xfrm>
        </p:grpSpPr>
        <p:sp>
          <p:nvSpPr>
            <p:cNvPr id="131" name="矩形 37"/>
            <p:cNvSpPr/>
            <p:nvPr/>
          </p:nvSpPr>
          <p:spPr>
            <a:xfrm>
              <a:off x="5700600" y="2550960"/>
              <a:ext cx="4827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  2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7  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8  4  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2" descr=""/>
            <p:cNvPicPr/>
            <p:nvPr/>
          </p:nvPicPr>
          <p:blipFill>
            <a:blip r:embed="rId1"/>
            <a:stretch/>
          </p:blipFill>
          <p:spPr>
            <a:xfrm>
              <a:off x="5579640" y="3412440"/>
              <a:ext cx="2916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直接连接符 39"/>
            <p:cNvSpPr/>
            <p:nvPr/>
          </p:nvSpPr>
          <p:spPr>
            <a:xfrm>
              <a:off x="5570640" y="3724200"/>
              <a:ext cx="1481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20"/>
          <p:cNvSpPr/>
          <p:nvPr/>
        </p:nvSpPr>
        <p:spPr>
          <a:xfrm>
            <a:off x="2509200" y="2786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矩形 41"/>
          <p:cNvSpPr/>
          <p:nvPr/>
        </p:nvSpPr>
        <p:spPr>
          <a:xfrm>
            <a:off x="2175840" y="489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接连接符 43"/>
          <p:cNvSpPr/>
          <p:nvPr/>
        </p:nvSpPr>
        <p:spPr>
          <a:xfrm>
            <a:off x="1897200" y="5359320"/>
            <a:ext cx="1481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42"/>
          <p:cNvSpPr/>
          <p:nvPr/>
        </p:nvSpPr>
        <p:spPr>
          <a:xfrm>
            <a:off x="24966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45"/>
          <p:cNvSpPr/>
          <p:nvPr/>
        </p:nvSpPr>
        <p:spPr>
          <a:xfrm>
            <a:off x="2863800" y="196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6"/>
          <p:cNvSpPr/>
          <p:nvPr/>
        </p:nvSpPr>
        <p:spPr>
          <a:xfrm>
            <a:off x="1027080" y="2490840"/>
            <a:ext cx="71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计算                 时，在被除数和除数末尾同时划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商不变，但余数发生变化，需要再添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10"/>
          <p:cNvGrpSpPr/>
          <p:nvPr/>
        </p:nvGrpSpPr>
        <p:grpSpPr>
          <a:xfrm>
            <a:off x="1673640" y="2171520"/>
            <a:ext cx="2310840" cy="1259280"/>
            <a:chOff x="1673640" y="2171520"/>
            <a:chExt cx="2310840" cy="1259280"/>
          </a:xfrm>
        </p:grpSpPr>
        <p:grpSp>
          <p:nvGrpSpPr>
            <p:cNvPr id="141" name="组合 11"/>
            <p:cNvGrpSpPr/>
            <p:nvPr/>
          </p:nvGrpSpPr>
          <p:grpSpPr>
            <a:xfrm>
              <a:off x="1673640" y="2171520"/>
              <a:ext cx="2310840" cy="1259280"/>
              <a:chOff x="1673640" y="2171520"/>
              <a:chExt cx="2310840" cy="1259280"/>
            </a:xfrm>
          </p:grpSpPr>
          <p:grpSp>
            <p:nvGrpSpPr>
              <p:cNvPr id="142" name="组合 25"/>
              <p:cNvGrpSpPr/>
              <p:nvPr/>
            </p:nvGrpSpPr>
            <p:grpSpPr>
              <a:xfrm>
                <a:off x="1673640" y="2171520"/>
                <a:ext cx="1757880" cy="1259280"/>
                <a:chOff x="1673640" y="2171520"/>
                <a:chExt cx="1757880" cy="1259280"/>
              </a:xfrm>
            </p:grpSpPr>
            <p:sp>
              <p:nvSpPr>
                <p:cNvPr id="143" name="直接连接符 7"/>
                <p:cNvSpPr/>
                <p:nvPr/>
              </p:nvSpPr>
              <p:spPr>
                <a:xfrm>
                  <a:off x="2742840" y="2698560"/>
                  <a:ext cx="688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弧形 8"/>
                <p:cNvSpPr/>
                <p:nvPr/>
              </p:nvSpPr>
              <p:spPr>
                <a:xfrm rot="4684800">
                  <a:off x="1731240" y="2305080"/>
                  <a:ext cx="1077840" cy="991800"/>
                </a:xfrm>
                <a:custGeom>
                  <a:avLst/>
                  <a:gdLst/>
                  <a:ahLst/>
                  <a:rect l="l" t="t" r="r" b="b"/>
                  <a:pathLst>
                    <a:path stroke="0" w="1077148" h="991693">
                      <a:moveTo>
                        <a:pt x="538574" y="0"/>
                      </a:moveTo>
                      <a:cubicBezTo>
                        <a:pt x="673055" y="0"/>
                        <a:pt x="802670" y="46320"/>
                        <a:pt x="901933" y="129852"/>
                      </a:cubicBezTo>
                      <a:lnTo>
                        <a:pt x="538574" y="495847"/>
                      </a:lnTo>
                      <a:lnTo>
                        <a:pt x="538574" y="0"/>
                      </a:lnTo>
                      <a:close/>
                    </a:path>
                    <a:path fill="none" w="1077148" h="991693">
                      <a:moveTo>
                        <a:pt x="538574" y="0"/>
                      </a:moveTo>
                      <a:cubicBezTo>
                        <a:pt x="673055" y="0"/>
                        <a:pt x="802670" y="46320"/>
                        <a:pt x="901933" y="129852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5" name="TextBox 15"/>
              <p:cNvSpPr/>
              <p:nvPr/>
            </p:nvSpPr>
            <p:spPr>
              <a:xfrm>
                <a:off x="2693880" y="2512440"/>
                <a:ext cx="129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8500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6" name="矩形 36"/>
            <p:cNvSpPr/>
            <p:nvPr/>
          </p:nvSpPr>
          <p:spPr>
            <a:xfrm>
              <a:off x="2101680" y="2626920"/>
              <a:ext cx="87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2440" indent="-82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矩形 11"/>
          <p:cNvSpPr/>
          <p:nvPr/>
        </p:nvSpPr>
        <p:spPr>
          <a:xfrm>
            <a:off x="2148120" y="3160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2436840" y="3724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14"/>
          <p:cNvSpPr/>
          <p:nvPr/>
        </p:nvSpPr>
        <p:spPr>
          <a:xfrm>
            <a:off x="4300560" y="3586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0"/>
          <p:cNvGrpSpPr/>
          <p:nvPr/>
        </p:nvGrpSpPr>
        <p:grpSpPr>
          <a:xfrm>
            <a:off x="1038240" y="1306440"/>
            <a:ext cx="7137360" cy="4690440"/>
            <a:chOff x="1038240" y="1306440"/>
            <a:chExt cx="7137360" cy="4690440"/>
          </a:xfrm>
        </p:grpSpPr>
        <p:sp>
          <p:nvSpPr>
            <p:cNvPr id="151" name="TextBox 36"/>
            <p:cNvSpPr/>
            <p:nvPr/>
          </p:nvSpPr>
          <p:spPr>
            <a:xfrm>
              <a:off x="1038240" y="1306440"/>
              <a:ext cx="713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072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．接着算，再验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450720" indent="-450720">
                <a:lnSpc>
                  <a:spcPct val="150000"/>
                </a:lnSpc>
                <a:tabLst>
                  <a:tab algn="l" pos="0"/>
                  <a:tab algn="l" pos="45072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400÷5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19"/>
            <p:cNvSpPr/>
            <p:nvPr/>
          </p:nvSpPr>
          <p:spPr>
            <a:xfrm>
              <a:off x="4780800" y="29653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验算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3" name="组合 19"/>
            <p:cNvGrpSpPr/>
            <p:nvPr/>
          </p:nvGrpSpPr>
          <p:grpSpPr>
            <a:xfrm>
              <a:off x="1118160" y="2611080"/>
              <a:ext cx="3353400" cy="3385800"/>
              <a:chOff x="1118160" y="2611080"/>
              <a:chExt cx="3353400" cy="3385800"/>
            </a:xfrm>
          </p:grpSpPr>
          <p:grpSp>
            <p:nvGrpSpPr>
              <p:cNvPr id="154" name="组合 7"/>
              <p:cNvGrpSpPr/>
              <p:nvPr/>
            </p:nvGrpSpPr>
            <p:grpSpPr>
              <a:xfrm>
                <a:off x="1118160" y="2611080"/>
                <a:ext cx="3353400" cy="3385800"/>
                <a:chOff x="1118160" y="2611080"/>
                <a:chExt cx="3353400" cy="3385800"/>
              </a:xfrm>
            </p:grpSpPr>
            <p:grpSp>
              <p:nvGrpSpPr>
                <p:cNvPr id="155" name="组合 9"/>
                <p:cNvGrpSpPr/>
                <p:nvPr/>
              </p:nvGrpSpPr>
              <p:grpSpPr>
                <a:xfrm>
                  <a:off x="1483560" y="2611080"/>
                  <a:ext cx="2988000" cy="3385800"/>
                  <a:chOff x="1483560" y="2611080"/>
                  <a:chExt cx="2988000" cy="3385800"/>
                </a:xfrm>
              </p:grpSpPr>
              <p:sp>
                <p:nvSpPr>
                  <p:cNvPr id="156" name="矩形 13"/>
                  <p:cNvSpPr/>
                  <p:nvPr/>
                </p:nvSpPr>
                <p:spPr>
                  <a:xfrm>
                    <a:off x="1483560" y="3258000"/>
                    <a:ext cx="714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0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7" name="组合 1"/>
                  <p:cNvGrpSpPr/>
                  <p:nvPr/>
                </p:nvGrpSpPr>
                <p:grpSpPr>
                  <a:xfrm>
                    <a:off x="2109240" y="2611080"/>
                    <a:ext cx="2362320" cy="3385800"/>
                    <a:chOff x="2109240" y="2611080"/>
                    <a:chExt cx="2362320" cy="3385800"/>
                  </a:xfrm>
                </p:grpSpPr>
                <p:sp>
                  <p:nvSpPr>
                    <p:cNvPr id="158" name="TextBox 15"/>
                    <p:cNvSpPr/>
                    <p:nvPr/>
                  </p:nvSpPr>
                  <p:spPr>
                    <a:xfrm>
                      <a:off x="2238840" y="2611080"/>
                      <a:ext cx="2232720" cy="3385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 4  0 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4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9" name="直接连接符 16"/>
                    <p:cNvSpPr/>
                    <p:nvPr/>
                  </p:nvSpPr>
                  <p:spPr>
                    <a:xfrm>
                      <a:off x="2109240" y="4284720"/>
                      <a:ext cx="1589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grpSp>
              <p:nvGrpSpPr>
                <p:cNvPr id="160" name="组合 16"/>
                <p:cNvGrpSpPr/>
                <p:nvPr/>
              </p:nvGrpSpPr>
              <p:grpSpPr>
                <a:xfrm>
                  <a:off x="1118160" y="2677320"/>
                  <a:ext cx="2521080" cy="1258560"/>
                  <a:chOff x="1118160" y="2677320"/>
                  <a:chExt cx="2521080" cy="1258560"/>
                </a:xfrm>
              </p:grpSpPr>
              <p:sp>
                <p:nvSpPr>
                  <p:cNvPr id="161" name="直接连接符 11"/>
                  <p:cNvSpPr/>
                  <p:nvPr/>
                </p:nvSpPr>
                <p:spPr>
                  <a:xfrm>
                    <a:off x="2187000" y="3204720"/>
                    <a:ext cx="1452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62" name="弧形 12"/>
                  <p:cNvSpPr/>
                  <p:nvPr/>
                </p:nvSpPr>
                <p:spPr>
                  <a:xfrm rot="4684800">
                    <a:off x="1176120" y="2810520"/>
                    <a:ext cx="1076760" cy="991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1076191" h="992254">
                        <a:moveTo>
                          <a:pt x="538095" y="0"/>
                        </a:moveTo>
                        <a:cubicBezTo>
                          <a:pt x="733730" y="0"/>
                          <a:pt x="913952" y="97898"/>
                          <a:pt x="1008769" y="255674"/>
                        </a:cubicBezTo>
                        <a:lnTo>
                          <a:pt x="538096" y="496127"/>
                        </a:lnTo>
                        <a:cubicBezTo>
                          <a:pt x="538096" y="330751"/>
                          <a:pt x="538095" y="165376"/>
                          <a:pt x="538095" y="0"/>
                        </a:cubicBezTo>
                        <a:close/>
                      </a:path>
                      <a:path fill="none" w="1076191" h="992254">
                        <a:moveTo>
                          <a:pt x="538095" y="0"/>
                        </a:moveTo>
                        <a:cubicBezTo>
                          <a:pt x="733730" y="0"/>
                          <a:pt x="913952" y="97898"/>
                          <a:pt x="1008769" y="25567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163" name="直接连接符 4"/>
              <p:cNvSpPr/>
              <p:nvPr/>
            </p:nvSpPr>
            <p:spPr>
              <a:xfrm>
                <a:off x="1787400" y="3317760"/>
                <a:ext cx="147600" cy="33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直接连接符 5"/>
              <p:cNvSpPr/>
              <p:nvPr/>
            </p:nvSpPr>
            <p:spPr>
              <a:xfrm>
                <a:off x="3106440" y="3363840"/>
                <a:ext cx="145800" cy="33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直接连接符 17"/>
              <p:cNvSpPr/>
              <p:nvPr/>
            </p:nvSpPr>
            <p:spPr>
              <a:xfrm>
                <a:off x="1947600" y="3317760"/>
                <a:ext cx="147600" cy="33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直接连接符 18"/>
              <p:cNvSpPr/>
              <p:nvPr/>
            </p:nvSpPr>
            <p:spPr>
              <a:xfrm>
                <a:off x="3400200" y="3362400"/>
                <a:ext cx="147600" cy="33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7" name="矩形 21"/>
          <p:cNvSpPr/>
          <p:nvPr/>
        </p:nvSpPr>
        <p:spPr>
          <a:xfrm>
            <a:off x="271224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3"/>
          <p:cNvSpPr/>
          <p:nvPr/>
        </p:nvSpPr>
        <p:spPr>
          <a:xfrm>
            <a:off x="2390040" y="4863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接连接符 25"/>
          <p:cNvSpPr/>
          <p:nvPr/>
        </p:nvSpPr>
        <p:spPr>
          <a:xfrm>
            <a:off x="2065320" y="5308560"/>
            <a:ext cx="15890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4"/>
          <p:cNvSpPr/>
          <p:nvPr/>
        </p:nvSpPr>
        <p:spPr>
          <a:xfrm>
            <a:off x="2693160" y="53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" name="组合 27"/>
          <p:cNvGrpSpPr/>
          <p:nvPr/>
        </p:nvGrpSpPr>
        <p:grpSpPr>
          <a:xfrm>
            <a:off x="5873760" y="2635200"/>
            <a:ext cx="5132520" cy="2837160"/>
            <a:chOff x="5873760" y="2635200"/>
            <a:chExt cx="5132520" cy="2837160"/>
          </a:xfrm>
        </p:grpSpPr>
        <p:grpSp>
          <p:nvGrpSpPr>
            <p:cNvPr id="172" name="组合 23"/>
            <p:cNvGrpSpPr/>
            <p:nvPr/>
          </p:nvGrpSpPr>
          <p:grpSpPr>
            <a:xfrm>
              <a:off x="5878440" y="2635200"/>
              <a:ext cx="5127840" cy="2837160"/>
              <a:chOff x="5878440" y="2635200"/>
              <a:chExt cx="5127840" cy="2837160"/>
            </a:xfrm>
          </p:grpSpPr>
          <p:grpSp>
            <p:nvGrpSpPr>
              <p:cNvPr id="173" name="组合 12"/>
              <p:cNvGrpSpPr/>
              <p:nvPr/>
            </p:nvGrpSpPr>
            <p:grpSpPr>
              <a:xfrm>
                <a:off x="5881320" y="2635200"/>
                <a:ext cx="5124960" cy="2837160"/>
                <a:chOff x="5881320" y="2635200"/>
                <a:chExt cx="5124960" cy="2837160"/>
              </a:xfrm>
            </p:grpSpPr>
            <p:sp>
              <p:nvSpPr>
                <p:cNvPr id="174" name="矩形 34"/>
                <p:cNvSpPr/>
                <p:nvPr/>
              </p:nvSpPr>
              <p:spPr>
                <a:xfrm>
                  <a:off x="6177960" y="2635200"/>
                  <a:ext cx="4828320" cy="28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  6</a:t>
                  </a:r>
                  <a:r>
                    <a:rPr b="1" lang="zh-CN" sz="2400" spc="-1" strike="noStrike">
                      <a:solidFill>
                        <a:srgbClr val="ff0000"/>
                      </a:solidFill>
                      <a:latin typeface="Times New Roman"/>
                    </a:rPr>
                    <a:t>　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 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5  0  0 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  0  0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    </a:t>
                  </a: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4  0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8  4  0  0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pic>
              <p:nvPicPr>
                <p:cNvPr id="175" name="Picture 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14080" y="3496680"/>
                  <a:ext cx="291600" cy="324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直接连接符 36"/>
                <p:cNvSpPr/>
                <p:nvPr/>
              </p:nvSpPr>
              <p:spPr>
                <a:xfrm>
                  <a:off x="5881320" y="3808440"/>
                  <a:ext cx="1481040" cy="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7" name="矩形 31"/>
              <p:cNvSpPr/>
              <p:nvPr/>
            </p:nvSpPr>
            <p:spPr>
              <a:xfrm>
                <a:off x="5878440" y="4280040"/>
                <a:ext cx="458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8" name="直接连接符 29"/>
            <p:cNvSpPr/>
            <p:nvPr/>
          </p:nvSpPr>
          <p:spPr>
            <a:xfrm>
              <a:off x="5873760" y="4897440"/>
              <a:ext cx="1481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矩形 39"/>
          <p:cNvSpPr/>
          <p:nvPr/>
        </p:nvSpPr>
        <p:spPr>
          <a:xfrm>
            <a:off x="3201120" y="196524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6……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995400" y="2825640"/>
            <a:ext cx="71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运用商不变的规律，不仅可以使口算简便，还可以使笔算简便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被除数和除数的末尾都去掉相同个数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商不变，但余数发生了变化，被除数末尾去掉几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余数末尾就要添上几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也就是“商不变，余数还原”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36"/>
          <p:cNvSpPr/>
          <p:nvPr/>
        </p:nvSpPr>
        <p:spPr>
          <a:xfrm>
            <a:off x="1050840" y="1882800"/>
            <a:ext cx="69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聪聪和红红从同一天开始分别看两本故事书。聪聪看的故事书 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，红红看的故事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。不计算，你能说出红红 几天能看完吗？（口答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2665440" y="5138640"/>
            <a:ext cx="37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红红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能看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050840" y="3732120"/>
            <a:ext cx="6907320" cy="127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组合 7"/>
          <p:cNvGrpSpPr/>
          <p:nvPr/>
        </p:nvGrpSpPr>
        <p:grpSpPr>
          <a:xfrm>
            <a:off x="957240" y="1062720"/>
            <a:ext cx="5184720" cy="733680"/>
            <a:chOff x="957240" y="1062720"/>
            <a:chExt cx="5184720" cy="733680"/>
          </a:xfrm>
        </p:grpSpPr>
        <p:pic>
          <p:nvPicPr>
            <p:cNvPr id="187" name="图片 22" descr="花盆.png"/>
            <p:cNvPicPr/>
            <p:nvPr/>
          </p:nvPicPr>
          <p:blipFill>
            <a:blip r:embed="rId2"/>
            <a:stretch/>
          </p:blipFill>
          <p:spPr>
            <a:xfrm>
              <a:off x="957240" y="132012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文本框 23"/>
            <p:cNvSpPr/>
            <p:nvPr/>
          </p:nvSpPr>
          <p:spPr>
            <a:xfrm>
              <a:off x="1279440" y="1062720"/>
              <a:ext cx="48625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Times New Roman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P21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Times New Roman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Administrator</cp:lastModifiedBy>
  <dcterms:modified xsi:type="dcterms:W3CDTF">2017-11-12T11:41:56Z</dcterms:modified>
  <cp:revision>46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